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1292-18C9-4682-9482-2005C0FA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CC2-6B26-4137-B1E6-DF812244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748D4-23F6-47A5-BA93-2D4E02FF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596CE-0098-418A-A3BE-E3D0E207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C34B6-7D50-4C57-9158-0D51ACB2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AE7D0-4340-45ED-9717-A040003B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0F294-776C-4A47-B44E-B9A827D5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3FC5B-CE56-48A8-8F09-85B4F992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35A7A-A394-4A47-A26B-43EE6159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1125F-BC9D-40D1-9596-039F404A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7CD7E-076C-49FD-87C1-0237B760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FBC85-9E95-471A-8C12-63DFEADE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553-768C-4C55-B0A2-07CB32AC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D6C1F-C6BB-4DF4-AB5D-BB8859B8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D5603-D96C-4E2B-B8AB-194101CD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53A9E-7AA6-4CEB-A585-306E8347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8774D-A5ED-480C-90A3-AF81761E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0275D-691B-4428-A9B5-004469D5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9E2C7-3869-41F4-B5BF-2A8FC724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054EF-6730-415A-AD47-4B0AF25F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9B03C-E4AF-444E-8D55-9A52D6A8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4CD45-4C5B-4E0E-8F8C-ADEF66AB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F6CEA-28F2-4415-B1E8-6348DAEB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9CC-445B-4C70-8475-D118B29C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954A9-5E53-4667-8FC0-F5BE859F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D516D-0C05-4965-8F7B-D97D0513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F9C3E-4008-4794-86BB-2CE33641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895C7-545A-4435-9B80-556622BC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CBC34-A1D0-46B3-BA7F-8DEFCF1C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99872-3F71-4631-A92E-7236FBC5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B9E1F-EEFE-415A-87DE-C9704005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4FD3A-4E56-48DC-BC20-7182B131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72341-50EA-428A-A952-111B2DB8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A7809-03A0-4C3A-97F2-AA7701D4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7F4E-3B6E-4F34-9874-F69411F8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CA53B-DE82-4549-B457-0A8F4C34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CD4D3-6881-4F78-8AE8-D720B5D1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1E8E9-0E49-497C-BB66-E93387F7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7A717-B535-4554-8674-05FFDD3F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BFCE2-BF85-4C5E-8B1A-2C228BB4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2FABD-3CC5-4549-9100-B2FD6EE9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D95B3-817C-4807-8A4F-5119481A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49EF0-9AD0-4443-817E-284CFEE2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667FA-7EFE-4033-AC6E-F137851A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01746-DDDE-49A1-8E69-F32C29A1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A953-A932-411B-9221-BF76240D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36D5A-6382-4182-ADE6-36A49788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CEC0E-6F4F-4188-8D1B-543E4569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02665-492C-4CB1-A26F-D07D97FF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4B498-EE53-4036-A414-7D41F620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8ED0A-C1DA-46C9-832B-780E5AD0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E9AC1-D9D1-4858-9BED-D9C4EE6E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46F7A-7BAB-4CB9-B9CD-0CDA9DE4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0D69F-5530-42E7-84F0-C07E4769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F495C-9604-4173-8B0B-993C7819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7A029-EBD4-4953-AF71-B2BDD583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CD67-B515-42B5-8021-97DF9369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219EA-BDA4-4D7C-9418-85331F98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42509-6CDB-4F97-B112-751FCCAA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05902-7062-4801-B51E-EC605CCC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761C3-187A-4D48-818A-05A98B5E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C97C0C-CA4F-485D-A917-6B870360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68E98-E101-4693-AF1A-A9D73F5A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E88AD-ED3F-4999-9EC5-AB463234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F4A969-4C90-4148-B294-3847C617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F6AE8-3B3B-4B2F-A57C-541CB74D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D66B45-0EC1-4932-A0D9-65536569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2E79-A8F4-415A-BC81-5A8FA47B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B2B32-3C90-49AC-9E3C-44D8EB75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2CEB85-3B86-42DD-A424-A1D8D587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E0EFD-2C34-4E3B-B4C1-D336A4E9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70EEDB-8683-4C1E-81DF-C37107DD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ECE807-B3D9-4D9B-9D3B-7227BB0D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D30EB-4D86-4EC5-9D51-C4C850FF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B4F41-DDE3-4BCC-8E94-546E069D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04D66-3FE4-46AD-BCAC-11EC1F04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6ACE9F-81A6-4626-B844-0C21D0D4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07BA1E-84E9-4599-A068-ABD04B58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7801-E6FC-4DA4-B639-73C93909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A97E2F-937C-4735-A219-D772BB89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3A77E3-91D9-4508-A7B7-2D72221E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D16DA4-7C51-464F-A556-E2468790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CBA21-579E-4A97-9152-4D915F39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6335BB-02C3-4E5C-88A1-7682FF09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030459-82F5-4EA3-B1A9-B2C438F3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4346AC-6BF2-402E-AB25-72281CFD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EE7874-C673-4918-BFE8-01B249B0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339113-BE76-4A1C-B5A8-6537AC8E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B7A0AC-8981-4AB6-AAA8-0692A0B7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5527-A8FB-40E8-BD7F-41799900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51BFE7-7D72-41B1-BF69-283B799E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D8889E-77D3-41F1-8823-80EBF781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4612A1-79FE-4CC8-B086-8B8CAAF1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B7CDCF-E0BE-4918-AF4F-FFC9A01C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BD7781-4A9B-49E1-9791-347806A4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22E2DF-7430-4C7F-8EE0-63DD4A47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C683D4-472F-416A-A0D3-D9366493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80B037-009B-46B5-BD09-8B4A15C6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3218DB-E30D-4191-838C-E1D33C1B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76F63F-F6D5-4DBC-82F5-2F6AC18D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FA06-7F14-4FE8-B14D-E72E1901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74A3F5-C5B1-451D-973F-9A870D7C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24F75F-3348-4996-9B65-EA85A0AB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EB5D38-69D5-4C89-B556-0818C443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4F5720-AA6A-405A-A540-C731615A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395D29-0043-4EC4-9399-37B53B82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192B30-0BD6-4DB7-89FA-ACF1B73C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FE547F-714F-457D-BFD1-96E6644A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03815C-C8AB-4026-AA6A-4BFBC9EA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1E8A60-1A45-4EA5-BF81-34414AA9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3CB001-1A28-47F1-BED4-FD38CCDA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7E2-6DF0-4B57-B81F-61FB6BCF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8CB9-CA96-4076-8A0F-958B77CC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C6E9ED-16F4-4A46-B998-E6E7E2A5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0904C3-0F06-42A1-95E7-3576831E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8AEA9F-AFB6-4257-BF56-69CFD6C4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1E9B60-92B6-49FF-AA91-C303D25A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F31901-E041-4CCB-8806-DE6BF997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7418D4-3DAD-4D55-A5D7-5BDC507A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46C97A-C969-4168-BA84-6EF15452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3D5D3E-C551-4A2E-B011-C4E42146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849B04-2B04-43CB-8980-863ABF47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A8D1E1-6F12-4F2C-9172-0773F99A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68F5-B8B7-490A-AA95-09EBCF0D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2421E5-E76B-46A1-B362-3A3EBD6E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33E884-0817-4E91-9733-9257333C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BC1018-418D-4AC3-A30D-B3E3ECFF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9E3420-BD1B-4513-8991-47B07707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A2CF40-5DD2-441A-BE32-E0F10D25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A5E1DB-5034-4CEA-AFDD-9D7C6F2D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E132D6-494C-4737-BAF4-A2B3A6A5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2B6FC2-0914-4FAD-9459-B85D4578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E9FAFC-3F14-40D1-BE6B-63C132EF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504995-8B20-4342-B05B-29BA6F9E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1BB9-E1B4-4D3B-A788-A4D40653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F9915D-60F7-414D-A0CA-B5C2C256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70439C-FD9E-4AC3-8D1B-B856763E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27BB5-180F-4F2E-ADA8-4C1EC9EE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598E5D-E0D8-4D1D-95A2-EBDEDD00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505B71-7DD1-4370-811C-3D8FB926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507ABD-AF7F-4726-8A11-18917B38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4ABFBA-82F0-4B0B-A55F-9A53E172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73A2D4-107C-4FAC-BCE6-E3288028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2414BE-8AE1-45DA-AA28-BE4541D7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1C69CA-8CCB-4D48-8D52-670B2D1C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ADFB-216A-4F61-BE10-9BF3CFF1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EBDACF-A2B9-4816-AC73-F99A4A59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C8FE0C-44D7-40E7-9BED-1416DD91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4F11BD-27DA-4D8E-B762-E7F656E3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12699E-D982-4D1C-8C96-EB6ECB3A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AD8BF0-9105-47EF-A072-0DFD11CF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56EFC9-270C-484B-ABCA-A1848325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F7C232-ADE5-4788-82F7-50873689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BE163B-5FC3-4530-BB49-ED2C792B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E8DA0D-626D-446C-A585-93CBD06F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CB4B06-DA35-41EC-8ACC-9B11CDC3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D593-8C81-41B0-94A4-12300001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C78885-14D9-4E1A-8A5E-978CA935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4C2DC3-EC95-46C5-B46A-AC4926BE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D80AB3-DCD4-46E4-B7F7-DE712484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4FEC8C-7C5B-4F04-9D81-BD0828EC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E34D01-9735-40BC-8AFD-4FC0C38E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5ADE9D-A4AB-46C4-94CE-0C49D72B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52E2E1-B911-4BF0-B1E5-B3BB01BB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BD4016-4F6B-42B8-A9AD-592DBF45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0229D9-E449-4BFB-BB5C-8E3E216E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969731-0F13-410C-9278-CBD2C31B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FE634-58B1-4176-9553-986064CB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D9C837-4F5E-4150-8B3E-885B7E8D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144E45-4BAF-4335-8545-D5D1ECEA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72DAE4-343F-4A42-B460-7AF7CB33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C0806-79C7-4AB2-80CE-098ED1F4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52EC8-0751-4F64-91DD-C1BA81A0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79263-5AE2-4AA1-8790-C4A09EC8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8BAF-16D0-4F0C-8E79-523D64F6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22E-7E28-44CE-9FD0-0E1509FA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5624C-691A-4DF4-92FD-15E1B399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BDE5-5E69-4663-AE4B-E4598181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4B47A-C2B6-4754-A570-F5A6C410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17FAC-FA31-41F9-AE52-4BB83149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A5534-4731-4DCD-A9B6-9CF33037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BEE62-EADB-4F95-8AFD-B5CB513F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AE8DB-CD9F-417C-898E-D57F3E78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1B686-9FB2-4B92-89BA-C0DBAFEF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A3C86-570F-4A8D-9475-AE3598B3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26B8-A273-459C-AAF6-2922F641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21D-B76A-4FD9-BEAA-7A534109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47D65-63EE-418D-A88D-2CD981F3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9EEDD-10F1-44DE-96D3-4DA5CBBB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23D3A-7249-4B0F-BC07-FC3EE338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BDA90-30A8-4E31-B800-CC7B5805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3F96B-4238-4300-8F3B-C87FC0D7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1C952-D98C-4F57-A11E-C64AFDAB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C5550-44E2-419D-ADAA-49F28F60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EBBD2-B7E3-4DFC-B95A-82ACE179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856EC-01B0-4828-9342-D2473488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8BE06-CF09-42D6-A3C7-EE6DCA7A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7137-8304-4FE4-8425-29B2C988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5A372-FE9D-4340-86BF-F4D871F7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79863-17E7-46E6-BA20-3CB7091A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7DC8B-33E4-49CE-BDC8-927390D4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69316-91B4-4586-8DBF-45B0F619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7CED9-38CB-4088-B857-D5F8A613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73238-0806-4CD3-8266-B2F8BCEF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EB129-9FBA-448F-AF7F-2E9529AC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98F9A-4D47-46E9-B52C-175322FD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2819D-1EC0-45F6-93CE-29A4D98B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8D033-040D-4695-A58A-2F54E0BE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F88-CAF1-40C7-B92E-B349DC69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4DD64-07D2-4D9E-9DBC-4EA49EBD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B9A0B-D410-446D-8F82-9AE4E21E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C8D62-0877-44E0-A89B-20744A0E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18541-5077-4AB0-BB33-8A355C13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D2ED2-F3BE-44C2-B692-5F7CA9A2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D7730-01AA-4F54-9DA6-E9A608E2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D74F6-0016-4AB9-933C-4E739794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3DC56-7E93-46D6-A3F2-C77627F2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A6576-B13D-4986-A721-F7D351CC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CDCD9-CB64-438B-ADBB-F749C076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B62-9168-402E-88A0-9815719D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9B89C-387D-4474-A268-4962A625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8B57F-5EE5-4DE4-B056-DAF9AD05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77DE4-4B64-48E9-A2A8-1ADE5F81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A6A8D-0E9B-4E22-87BB-00EC052A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39C5A-6B05-4793-89A4-413133D9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B0529-61B6-4C49-8F4C-80B43BBA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55C93-7823-4666-8FDA-DC56B7E5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4DAFA-DDBB-4CAE-AA9D-E0E69FA6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7D73C-1DB2-4520-8E6E-8CA3A4F4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AC5F3-55B9-499F-AF3A-3355FFB4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C61-4B88-4A24-BECD-8C650C86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249BE-8649-42BF-BB21-33468374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5977B-9908-48C8-AD21-73FB1C83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AF263-A9F0-4908-B737-84F1A073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07017-D559-4E21-991D-959141EF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59FF5-AFF1-4F70-8D87-198BA46C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D468D-5AF2-4C2D-A702-70C57A18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D8446-6A6B-4B0D-8766-D30B563E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A5698-FA0A-4C4A-92A4-BEFD443A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E685B-9DEA-4380-9B08-68987854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4FF9F-5EC2-4ADC-BCBB-B8717557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9E5-DA87-4880-BD0C-7EEA10D1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20F9F-B97E-4C3F-AA2B-17C117EF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79783-A2FC-4BAB-8AF2-03F5B840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DA72F-6197-4C7A-930C-A63E8039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85CDD-9F7F-4748-9D9D-1A853418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A426F-B73A-4F97-B1F6-7D2B3B7A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038BE-5F96-4047-97F5-ABFAD369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BCCB1-3CAC-4A14-88E1-3DD39680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092CA-4D9E-4F46-9A12-290D0B31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6D7D9-4B7C-492C-BC37-8A5A5822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6B302-E19A-44B6-8B1C-0717F385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5D40-FDEB-4DC7-9605-B94F390D0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0D55-E814-4FF1-A008-A4126809D6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549A-ECD5-4E87-BE7F-63223062B2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72FC-523B-4472-8F3C-3F5405D6DC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B621-2AC4-40C0-9830-96B1B4CF56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45BD-F775-4DCB-9220-70A032512E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DFA7-C7AB-4649-95A1-E6D06C00C3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8E6A-D2DE-4720-8C23-044AE45847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D046-7E6D-438C-B664-9B46432EE1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28FB-745E-4C5C-9016-67F46E2E35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DD92-9B38-4C0C-96B8-BE42398004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8108-2CD3-489A-8732-A7E28C2118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C742-42FF-48CF-A0AC-753A38278D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26F8-6372-4433-91FF-239C593B49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1579-CE61-426D-B943-D888D5AEE0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1906-441D-48C9-B305-156E4A2462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9427-62D2-4774-BCAE-2542BC34ED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F670-50FA-447E-975E-FF00ADED70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3C92-A363-4789-9CE5-C7DF32F97D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74F0-B0A5-4FD6-B60C-CB6E24CB62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B593-63F9-4D3C-99FF-6DA9682005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F175-1B79-48BC-8339-A92AD8AA48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8B70-0AF1-4D17-B6AA-6E481B087D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36DC-1387-4F56-8759-82B88B390E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DE44-2321-4978-A977-ABBBFFA472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8FB7-B548-44AE-A629-9878910DD7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381A-C2B4-4593-81D3-F4E116E238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5DA0-CA47-4896-9AE3-A37369FF5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EC09-A743-4858-A324-2B76640E7D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3632-EC2F-4DDB-A7B2-8989131EDD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4CD7-1E48-49C8-8CAB-B4D269D400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6467-65A1-4AE1-8ADE-6FA060C626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8CF9-C364-4801-B8BB-9A6C1A7752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EB21-1E04-4E1D-90B8-E039F52466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8776-B244-4B3D-82CE-853C3F4E40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3990-F8FE-430E-B48B-A70CC74F38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2A78-E340-43C7-97BC-50AD8FAEE2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B69B-E542-40D8-B0A9-6D78E294D2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44AA-225B-48A6-8DD4-35E398C07C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DDCD-88E8-4B2C-B144-0580E5851A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050920" y="2781360"/>
            <a:ext cx="50421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299880" y="1461960"/>
            <a:ext cx="8544240" cy="39340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571840" y="2571840"/>
            <a:ext cx="857160" cy="293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5786280" y="2571840"/>
            <a:ext cx="857520" cy="293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2286000" y="2909880"/>
            <a:ext cx="857160" cy="293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6286680" y="2921040"/>
            <a:ext cx="1214280" cy="293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2500200" y="3286080"/>
            <a:ext cx="857520" cy="293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7"/>
          <a:stretch/>
        </p:blipFill>
        <p:spPr>
          <a:xfrm>
            <a:off x="6572160" y="3267000"/>
            <a:ext cx="857520" cy="293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8"/>
          <a:stretch/>
        </p:blipFill>
        <p:spPr>
          <a:xfrm>
            <a:off x="1714680" y="3635280"/>
            <a:ext cx="857160" cy="293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9"/>
          <a:stretch/>
        </p:blipFill>
        <p:spPr>
          <a:xfrm>
            <a:off x="7143840" y="3621240"/>
            <a:ext cx="857160" cy="293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10"/>
          <a:stretch/>
        </p:blipFill>
        <p:spPr>
          <a:xfrm>
            <a:off x="2643120" y="4000680"/>
            <a:ext cx="857160" cy="293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11"/>
          <a:stretch/>
        </p:blipFill>
        <p:spPr>
          <a:xfrm>
            <a:off x="6929280" y="3973680"/>
            <a:ext cx="857520" cy="293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12"/>
          <a:stretch/>
        </p:blipFill>
        <p:spPr>
          <a:xfrm>
            <a:off x="2286000" y="5045040"/>
            <a:ext cx="857160" cy="293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13"/>
          <a:stretch/>
        </p:blipFill>
        <p:spPr>
          <a:xfrm>
            <a:off x="5214960" y="5045040"/>
            <a:ext cx="857160" cy="293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14"/>
          <a:stretch/>
        </p:blipFill>
        <p:spPr>
          <a:xfrm>
            <a:off x="7786800" y="5045040"/>
            <a:ext cx="8571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4:25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